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14FE6-1765-4014-8BB5-A5E406BE2F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629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A3439-B6CA-4C77-86D5-1CC2C50C4B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629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39EC6-F184-4E5D-A316-7059692930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629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13DC1-AA70-419B-8E41-EE46D4C2F8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05CD9-0870-4DBC-9CA6-E6D6D556FF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629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BD96A-6FCF-425E-B4D8-89401B702B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629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AF265-20D3-4DD2-981B-9F16A2E2CE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629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2ECC5-F693-4A9E-B030-E2CC891F75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629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DEDE6-DF78-49D7-8CDB-36CC8CE91D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676160" y="0"/>
            <a:ext cx="66294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9A12D-64B6-40A1-BECB-19655AEF97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629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57B91-A7BE-4C2D-99B1-73B812F6AB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629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7DDAF-7B56-41BD-BAC8-CB5DFC9F00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629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7E0BE-2D2F-40B9-B474-8BE8714B16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629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9AB2A-7A36-4678-9BF1-B34FE6FACB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629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D4CB5-9B02-410A-B126-DCF8008962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629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80F73-F305-4ED0-B8D5-DCF85A6D4B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629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E26EC-D113-4072-BAB5-FDC31A432F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629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A8A91-7410-4DDC-921E-2D1E9A47CC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629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20122-6404-4DA2-83EB-4087A085AC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629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81E7C-B9A2-4D92-89FB-4938A4243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676160" y="0"/>
            <a:ext cx="66294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01E84-6768-4864-8827-836A3E5B39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629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8A642-3AAA-4D46-A53E-417089302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629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644A0-4F50-43D8-9CD7-BADDA2EEE0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629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34310-D8A7-47A0-85E2-6EF5C9B6D6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495288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 fontScale="52000"/>
          </a:bodyPr>
          <a:p>
            <a:pPr marL="2052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052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052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052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2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2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2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40D6-C6DC-4994-839C-FBA4A3B3E7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6629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462440" y="6477120"/>
            <a:ext cx="312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800B-D1B4-4715-92C1-2F90F912644B}" type="slidenum"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4280" y="2394000"/>
            <a:ext cx="9077400" cy="181908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0" name="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4920" y="4292640"/>
              <a:ext cx="9074160" cy="14292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69840" y="-152280"/>
            <a:ext cx="9074160" cy="228276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-4680" y="0"/>
            <a:ext cx="9148680" cy="6860520"/>
            <a:chOff x="-4680" y="0"/>
            <a:chExt cx="9148680" cy="6860520"/>
          </a:xfrm>
        </p:grpSpPr>
        <p:sp>
          <p:nvSpPr>
            <p:cNvPr id="84" name=""/>
            <p:cNvSpPr/>
            <p:nvPr/>
          </p:nvSpPr>
          <p:spPr>
            <a:xfrm>
              <a:off x="38160" y="38160"/>
              <a:ext cx="9067680" cy="6784560"/>
            </a:xfrm>
            <a:prstGeom prst="roundRect">
              <a:avLst>
                <a:gd name="adj" fmla="val 6222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-78120" y="6397920"/>
              <a:ext cx="5317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0740000">
              <a:off x="8762760" y="6401880"/>
              <a:ext cx="368280" cy="45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9" name=""/>
          <p:cNvSpPr txBox="1"/>
          <p:nvPr/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CA0F-87DD-431A-A5C6-8C47B4F111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482920" y="2895480"/>
            <a:ext cx="2698200" cy="1041480"/>
            <a:chOff x="2482920" y="2895480"/>
            <a:chExt cx="2698200" cy="1041480"/>
          </a:xfrm>
        </p:grpSpPr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3777840" y="2895480"/>
              <a:ext cx="93636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4786200" y="3541680"/>
              <a:ext cx="39492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4"/>
            <a:stretch/>
          </p:blipFill>
          <p:spPr>
            <a:xfrm>
              <a:off x="2482920" y="3327120"/>
              <a:ext cx="576000" cy="57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63360" y="2311560"/>
            <a:ext cx="9017280" cy="443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6560" y="2362320"/>
            <a:ext cx="6400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iPhone application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5791320" y="4495680"/>
            <a:ext cx="3190680" cy="21718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umber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91ce"/>
                </a:solidFill>
                <a:latin typeface="Arial"/>
              </a:rPr>
              <a:t>CALCULAT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304920"/>
            <a:ext cx="9156600" cy="933120"/>
            <a:chOff x="0" y="304920"/>
            <a:chExt cx="9156600" cy="933120"/>
          </a:xfrm>
        </p:grpSpPr>
        <p:sp>
          <p:nvSpPr>
            <p:cNvPr id="99" name=""/>
            <p:cNvSpPr/>
            <p:nvPr/>
          </p:nvSpPr>
          <p:spPr>
            <a:xfrm>
              <a:off x="3240" y="304920"/>
              <a:ext cx="9153360" cy="93312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0800000">
              <a:off x="3596760" y="304560"/>
              <a:ext cx="5551560" cy="331920"/>
            </a:xfrm>
            <a:prstGeom prst="pie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d254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769680"/>
              <a:ext cx="5877000" cy="456840"/>
            </a:xfrm>
            <a:prstGeom prst="pie">
              <a:avLst/>
            </a:prstGeom>
            <a:gradFill rotWithShape="0">
              <a:gsLst>
                <a:gs pos="0">
                  <a:srgbClr val="00465e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0d2541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rot="20220000">
            <a:off x="1217160" y="2492280"/>
            <a:ext cx="6853320" cy="2803680"/>
          </a:xfrm>
          <a:prstGeom prst="pie">
            <a:avLst/>
          </a:prstGeom>
          <a:gradFill rotWithShape="0">
            <a:gsLst>
              <a:gs pos="0">
                <a:srgbClr val="cacaca"/>
              </a:gs>
              <a:gs pos="100000">
                <a:srgbClr val="f4f4f4"/>
              </a:gs>
            </a:gsLst>
            <a:lin ang="94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809880" y="1676520"/>
            <a:ext cx="1600200" cy="1600200"/>
            <a:chOff x="3809880" y="1676520"/>
            <a:chExt cx="1600200" cy="1600200"/>
          </a:xfrm>
        </p:grpSpPr>
        <p:sp>
          <p:nvSpPr>
            <p:cNvPr id="108" name=""/>
            <p:cNvSpPr/>
            <p:nvPr/>
          </p:nvSpPr>
          <p:spPr>
            <a:xfrm>
              <a:off x="3809880" y="1676520"/>
              <a:ext cx="1600200" cy="1600200"/>
            </a:xfrm>
            <a:prstGeom prst="ellipse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a1c30"/>
                </a:gs>
              </a:gsLst>
              <a:lin ang="10800000"/>
            </a:gradFill>
            <a:ln w="0">
              <a:noFill/>
            </a:ln>
            <a:effectLst>
              <a:outerShdw dist="76320" dir="108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43160" y="1909800"/>
              <a:ext cx="113184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066680" y="3048120"/>
            <a:ext cx="1600200" cy="1600200"/>
            <a:chOff x="1066680" y="3048120"/>
            <a:chExt cx="1600200" cy="1600200"/>
          </a:xfrm>
        </p:grpSpPr>
        <p:sp>
          <p:nvSpPr>
            <p:cNvPr id="111" name=""/>
            <p:cNvSpPr/>
            <p:nvPr/>
          </p:nvSpPr>
          <p:spPr>
            <a:xfrm>
              <a:off x="1066680" y="3048120"/>
              <a:ext cx="1600200" cy="16002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040"/>
                </a:gs>
              </a:gsLst>
              <a:lin ang="10800000"/>
            </a:gradFill>
            <a:ln w="0">
              <a:noFill/>
            </a:ln>
            <a:effectLst>
              <a:outerShdw dist="76320" dir="108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99960" y="3281400"/>
              <a:ext cx="113184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178000" y="4897440"/>
            <a:ext cx="1555920" cy="1503360"/>
            <a:chOff x="2178000" y="4897440"/>
            <a:chExt cx="1555920" cy="1503360"/>
          </a:xfrm>
        </p:grpSpPr>
        <p:sp>
          <p:nvSpPr>
            <p:cNvPr id="114" name=""/>
            <p:cNvSpPr/>
            <p:nvPr/>
          </p:nvSpPr>
          <p:spPr>
            <a:xfrm>
              <a:off x="2178000" y="4897440"/>
              <a:ext cx="1555920" cy="1503360"/>
            </a:xfrm>
            <a:prstGeom prst="ellipse">
              <a:avLst/>
            </a:prstGeom>
            <a:gradFill rotWithShape="0">
              <a:gsLst>
                <a:gs pos="0">
                  <a:srgbClr val="bfa907"/>
                </a:gs>
                <a:gs pos="100000">
                  <a:srgbClr val="443c02"/>
                </a:gs>
              </a:gsLst>
              <a:lin ang="10800000"/>
            </a:gradFill>
            <a:ln w="0">
              <a:noFill/>
            </a:ln>
            <a:effectLst>
              <a:outerShdw dist="76320" dir="108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05160" y="5116680"/>
              <a:ext cx="1100160" cy="10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486400" y="4114800"/>
            <a:ext cx="1523880" cy="1523880"/>
            <a:chOff x="5486400" y="4114800"/>
            <a:chExt cx="1523880" cy="1523880"/>
          </a:xfrm>
        </p:grpSpPr>
        <p:sp>
          <p:nvSpPr>
            <p:cNvPr id="117" name=""/>
            <p:cNvSpPr/>
            <p:nvPr/>
          </p:nvSpPr>
          <p:spPr>
            <a:xfrm>
              <a:off x="5486400" y="4114800"/>
              <a:ext cx="1523880" cy="1523880"/>
            </a:xfrm>
            <a:prstGeom prst="ellipse">
              <a:avLst/>
            </a:prstGeom>
            <a:gradFill rotWithShape="0">
              <a:gsLst>
                <a:gs pos="0">
                  <a:srgbClr val="6e81e0"/>
                </a:gs>
                <a:gs pos="100000">
                  <a:srgbClr val="323b67"/>
                </a:gs>
              </a:gsLst>
              <a:lin ang="10800000"/>
            </a:gradFill>
            <a:ln w="0">
              <a:noFill/>
            </a:ln>
            <a:effectLst>
              <a:outerShdw dist="76320" dir="108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08520" y="4336920"/>
              <a:ext cx="107820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781680" y="1981080"/>
            <a:ext cx="1523880" cy="1523880"/>
            <a:chOff x="6781680" y="1981080"/>
            <a:chExt cx="1523880" cy="1523880"/>
          </a:xfrm>
        </p:grpSpPr>
        <p:sp>
          <p:nvSpPr>
            <p:cNvPr id="120" name=""/>
            <p:cNvSpPr/>
            <p:nvPr/>
          </p:nvSpPr>
          <p:spPr>
            <a:xfrm>
              <a:off x="6781680" y="1981080"/>
              <a:ext cx="1523880" cy="15238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3434"/>
                </a:gs>
              </a:gsLst>
              <a:lin ang="10800000"/>
            </a:gradFill>
            <a:ln w="0">
              <a:noFill/>
            </a:ln>
            <a:effectLst>
              <a:outerShdw dist="76320" dir="108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03800" y="2203200"/>
              <a:ext cx="107820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876240" y="3238560"/>
            <a:ext cx="1981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undre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ousan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&amp; Mill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ey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1828800"/>
            <a:ext cx="1371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tal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put &amp; Memor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splay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28640" y="2438280"/>
            <a:ext cx="1067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emor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wap ke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53160" y="4546440"/>
            <a:ext cx="9777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NDO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ey!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89480" y="5334120"/>
            <a:ext cx="783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irtual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ape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429000"/>
            <a:ext cx="29718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Verdana"/>
              </a:rPr>
              <a:t>Not found in</a:t>
            </a:r>
            <a:br>
              <a:rPr sz="1800"/>
            </a:br>
            <a:r>
              <a:rPr b="1" lang="en-US" sz="1800" spc="-1" strike="noStrike">
                <a:solidFill>
                  <a:srgbClr val="1d528d"/>
                </a:solidFill>
                <a:latin typeface="Verdana"/>
              </a:rPr>
              <a:t>other</a:t>
            </a:r>
            <a:br>
              <a:rPr sz="1800"/>
            </a:br>
            <a:r>
              <a:rPr b="1" lang="en-US" sz="1800" spc="-1" strike="noStrike">
                <a:solidFill>
                  <a:srgbClr val="1d528d"/>
                </a:solidFill>
                <a:latin typeface="Verdana"/>
              </a:rPr>
              <a:t>calculators</a:t>
            </a:r>
            <a:r>
              <a:rPr b="0" lang="en-US" sz="1800" spc="-1" strike="noStrike">
                <a:solidFill>
                  <a:srgbClr val="1d528d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152280"/>
            <a:ext cx="3429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Arial"/>
              </a:rPr>
              <a:t>CALCULATOR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29200" y="0"/>
            <a:ext cx="266688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afb"/>
                </a:solidFill>
                <a:latin typeface="Arial"/>
              </a:rPr>
              <a:t>Novelty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285840"/>
            <a:ext cx="9156600" cy="911160"/>
            <a:chOff x="0" y="285840"/>
            <a:chExt cx="9156600" cy="911160"/>
          </a:xfrm>
        </p:grpSpPr>
        <p:sp>
          <p:nvSpPr>
            <p:cNvPr id="131" name=""/>
            <p:cNvSpPr/>
            <p:nvPr/>
          </p:nvSpPr>
          <p:spPr>
            <a:xfrm>
              <a:off x="3240" y="285840"/>
              <a:ext cx="9153360" cy="9111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0800000">
              <a:off x="3596760" y="285480"/>
              <a:ext cx="5551560" cy="324000"/>
            </a:xfrm>
            <a:prstGeom prst="pie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d254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739800"/>
              <a:ext cx="5877000" cy="446040"/>
            </a:xfrm>
            <a:prstGeom prst="pie">
              <a:avLst/>
            </a:prstGeom>
            <a:gradFill rotWithShape="0">
              <a:gsLst>
                <a:gs pos="0">
                  <a:srgbClr val="00465e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0d2541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131880" y="3429000"/>
            <a:ext cx="666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124080" y="1600200"/>
            <a:ext cx="2743200" cy="4876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6019920" y="4191120"/>
            <a:ext cx="742680" cy="838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600200" y="0"/>
            <a:ext cx="3657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Arial"/>
              </a:rPr>
              <a:t>CALCULATOR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562720" y="0"/>
            <a:ext cx="27432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afb"/>
                </a:solidFill>
                <a:latin typeface="Arial"/>
              </a:rPr>
              <a:t>Application Ic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304560"/>
            <a:ext cx="9143640" cy="838440"/>
            <a:chOff x="0" y="304560"/>
            <a:chExt cx="9143640" cy="838440"/>
          </a:xfrm>
        </p:grpSpPr>
        <p:sp>
          <p:nvSpPr>
            <p:cNvPr id="144" name=""/>
            <p:cNvSpPr/>
            <p:nvPr/>
          </p:nvSpPr>
          <p:spPr>
            <a:xfrm>
              <a:off x="2880" y="304920"/>
              <a:ext cx="9140760" cy="83808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0800000">
              <a:off x="3591720" y="304200"/>
              <a:ext cx="5543640" cy="297720"/>
            </a:xfrm>
            <a:prstGeom prst="pie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d254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722160"/>
              <a:ext cx="5868720" cy="410040"/>
            </a:xfrm>
            <a:prstGeom prst="pie">
              <a:avLst/>
            </a:prstGeom>
            <a:gradFill rotWithShape="0">
              <a:gsLst>
                <a:gs pos="0">
                  <a:srgbClr val="00465e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0d2541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21932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-3240" y="1676520"/>
            <a:ext cx="13208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lec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on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7720" y="1981080"/>
            <a:ext cx="12067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rizontal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ayou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9800" y="6375240"/>
            <a:ext cx="609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(*) Covered by US Patent 5,623,433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3840" y="1612800"/>
            <a:ext cx="624816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buClr>
                <a:srgbClr val="1d52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Total Display with Currency Key Button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1d52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Input Display with Constant Button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1d52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Undo Key: Disregard last keystroke please </a:t>
            </a:r>
            <a:r>
              <a:rPr b="0" lang="en-US" sz="1800" spc="-1" strike="noStrike">
                <a:solidFill>
                  <a:srgbClr val="4d4d4d"/>
                </a:solidFill>
                <a:latin typeface="Wingdings"/>
                <a:ea typeface="Wingdings"/>
              </a:rPr>
              <a:t>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1d52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X# Keys (*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00     Hundred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          000   Thousand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          0x6   Million</a:t>
            </a:r>
            <a:br>
              <a:rPr sz="1800"/>
            </a:b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For example, entering: 2 [0x6] 3 [00] 7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  yields 2,000,307 in five keystroke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1d52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ms key to swap Total/Memory Display value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1d52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Memory Display with m key for memory value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0"/>
            <a:ext cx="3581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Arial"/>
              </a:rPr>
              <a:t>CALCULATOR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172200" y="1371600"/>
            <a:ext cx="2820960" cy="51055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29200" y="0"/>
            <a:ext cx="327672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tical Lay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0" y="285840"/>
            <a:ext cx="9156600" cy="911160"/>
            <a:chOff x="0" y="285840"/>
            <a:chExt cx="9156600" cy="911160"/>
          </a:xfrm>
        </p:grpSpPr>
        <p:sp>
          <p:nvSpPr>
            <p:cNvPr id="159" name=""/>
            <p:cNvSpPr/>
            <p:nvPr/>
          </p:nvSpPr>
          <p:spPr>
            <a:xfrm>
              <a:off x="3240" y="285840"/>
              <a:ext cx="9153360" cy="9111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0800000">
              <a:off x="3596760" y="285480"/>
              <a:ext cx="5551560" cy="324000"/>
            </a:xfrm>
            <a:prstGeom prst="pie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d254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0" y="739800"/>
              <a:ext cx="5877000" cy="446040"/>
            </a:xfrm>
            <a:prstGeom prst="pie">
              <a:avLst/>
            </a:prstGeom>
            <a:gradFill rotWithShape="0">
              <a:gsLst>
                <a:gs pos="0">
                  <a:srgbClr val="00465e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0d2541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-3240" y="1676520"/>
            <a:ext cx="13208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lec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on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52480" y="4952880"/>
            <a:ext cx="609624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buClr>
                <a:srgbClr val="1d52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Scrolling Tape with total and subtotal amounts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1d52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Save Tape Button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1d52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Load Saved Tape Button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1d52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Save Tape Button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1d528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Fix (Edit Number and Recalculate) Button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0"/>
            <a:ext cx="3962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Arial"/>
              </a:rPr>
              <a:t>CALCULATOR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981080" y="1676520"/>
            <a:ext cx="5029200" cy="27208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86400" y="0"/>
            <a:ext cx="3657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rizontal Lay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0" y="285840"/>
            <a:ext cx="9156600" cy="911160"/>
            <a:chOff x="0" y="285840"/>
            <a:chExt cx="9156600" cy="911160"/>
          </a:xfrm>
        </p:grpSpPr>
        <p:sp>
          <p:nvSpPr>
            <p:cNvPr id="172" name=""/>
            <p:cNvSpPr/>
            <p:nvPr/>
          </p:nvSpPr>
          <p:spPr>
            <a:xfrm>
              <a:off x="3240" y="285840"/>
              <a:ext cx="9153360" cy="9111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0800000">
              <a:off x="3596760" y="285480"/>
              <a:ext cx="5551560" cy="324000"/>
            </a:xfrm>
            <a:prstGeom prst="pie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d254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739800"/>
              <a:ext cx="5877000" cy="446040"/>
            </a:xfrm>
            <a:prstGeom prst="pie">
              <a:avLst/>
            </a:prstGeom>
            <a:gradFill rotWithShape="0">
              <a:gsLst>
                <a:gs pos="0">
                  <a:srgbClr val="00465e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0d2541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-3240" y="1676520"/>
            <a:ext cx="13208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lec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on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7720" y="1981080"/>
            <a:ext cx="12067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rizontal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ayou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0"/>
            <a:ext cx="36576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Arial"/>
              </a:rPr>
              <a:t>CALCULATOR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33520" y="1676520"/>
            <a:ext cx="2895480" cy="4800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3733920" y="2514600"/>
            <a:ext cx="5029200" cy="27208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28840" y="76320"/>
            <a:ext cx="24382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o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mes Redin</dc:creator>
  <dc:description/>
  <cp:keywords/>
  <dc:language>en-US</dc:language>
  <cp:lastModifiedBy>James Redin</cp:lastModifiedBy>
  <dcterms:modified xsi:type="dcterms:W3CDTF">2009-04-19T00:41:03Z</dcterms:modified>
  <cp:revision>10</cp:revision>
  <dc:subject/>
  <dc:title>Click to add title</dc:title>
</cp:coreProperties>
</file>