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3B02D-4BFD-4C83-8745-D8E3A512F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4CF1-CD89-4C6F-95F3-FD3D04275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F4B6-0BF3-4956-95B2-5AC1122D5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54393-33FE-4803-AEE0-FCC3FDFBF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E5F5-1E33-4D28-B71F-8165A0BB11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BBF01-0AC2-4C92-8488-DB03970BB0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CC194-E6B2-4067-A239-EA3FCDB74A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DF962-78E1-426E-8467-DC3AFD9143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CE09D-7724-4DF9-8373-3748D81B68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76160" y="0"/>
            <a:ext cx="66294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BCF1D-5BDE-4EFA-83CC-503E10573E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24D99-B2EB-4944-997A-9A534B114A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C09C-E08F-4BA7-BB10-BF6441C0F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6A92A-EA62-47E0-ACFE-E6363846FA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052A0-C203-47A6-8D39-EAC8DF68C3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EF039-2AB0-4C82-8CA1-98A722D761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3E864-BF2C-4015-8F8C-F1DF49762E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B79C6-32EA-40FC-8AF2-D70F4229DC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B8F3-F95D-4259-A46C-8028EFCCB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E3D9-834B-4E46-A3B3-566467248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846B-7E12-48FF-B187-3CD86E35E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76160" y="0"/>
            <a:ext cx="66294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8CB9-4B19-4384-BE37-1822C3EC4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AA6A6-47BC-4B2A-B451-024E03148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55E9-F2B5-4659-93F3-DE517B4BF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B160-1BDB-4476-BDBF-87543C998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49528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52000"/>
          </a:bodyPr>
          <a:p>
            <a:pPr marL="2052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52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052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052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2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2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2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5239-5EAE-4B6B-89C1-0BE1BF7EFC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462440" y="647712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2AAD-C9ED-4065-B833-BF81FE9D8952}" type="slidenum"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280" y="2394000"/>
            <a:ext cx="9077400" cy="181908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0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920" y="4292640"/>
              <a:ext cx="9074160" cy="14292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69840" y="-152280"/>
            <a:ext cx="9074160" cy="228276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-4680" y="0"/>
            <a:ext cx="9148680" cy="6860520"/>
            <a:chOff x="-4680" y="0"/>
            <a:chExt cx="9148680" cy="6860520"/>
          </a:xfrm>
        </p:grpSpPr>
        <p:sp>
          <p:nvSpPr>
            <p:cNvPr id="84" name=""/>
            <p:cNvSpPr/>
            <p:nvPr/>
          </p:nvSpPr>
          <p:spPr>
            <a:xfrm>
              <a:off x="38160" y="38160"/>
              <a:ext cx="9067680" cy="6784560"/>
            </a:xfrm>
            <a:prstGeom prst="roundRect">
              <a:avLst>
                <a:gd name="adj" fmla="val 6222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-78120" y="6397920"/>
              <a:ext cx="5317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0740000">
              <a:off x="8762760" y="6401880"/>
              <a:ext cx="368280" cy="45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9" name=""/>
          <p:cNvSpPr txBox="1"/>
          <p:nvPr/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4D37-575A-43FE-9851-94D010C160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482920" y="2895480"/>
            <a:ext cx="2698200" cy="1041480"/>
            <a:chOff x="2482920" y="2895480"/>
            <a:chExt cx="2698200" cy="104148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3777840" y="2895480"/>
              <a:ext cx="93636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4786200" y="3541680"/>
              <a:ext cx="39492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2482920" y="3327120"/>
              <a:ext cx="57600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63360" y="2311560"/>
            <a:ext cx="9017280" cy="443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6560" y="2362320"/>
            <a:ext cx="6400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iPhone application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791320" y="4495680"/>
            <a:ext cx="3190680" cy="21718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umbe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91ce"/>
                </a:solidFill>
                <a:latin typeface="Arial"/>
              </a:rPr>
              <a:t>CALCULA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304920"/>
            <a:ext cx="9156600" cy="933120"/>
            <a:chOff x="0" y="304920"/>
            <a:chExt cx="9156600" cy="933120"/>
          </a:xfrm>
        </p:grpSpPr>
        <p:sp>
          <p:nvSpPr>
            <p:cNvPr id="99" name=""/>
            <p:cNvSpPr/>
            <p:nvPr/>
          </p:nvSpPr>
          <p:spPr>
            <a:xfrm>
              <a:off x="3240" y="304920"/>
              <a:ext cx="9153360" cy="93312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0800000">
              <a:off x="3596760" y="304560"/>
              <a:ext cx="5551560" cy="331920"/>
            </a:xfrm>
            <a:prstGeom prst="pie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54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769680"/>
              <a:ext cx="5877000" cy="456840"/>
            </a:xfrm>
            <a:prstGeom prst="pie">
              <a:avLst/>
            </a:pr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1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rot="20220000">
            <a:off x="1217160" y="2492280"/>
            <a:ext cx="6853320" cy="2803680"/>
          </a:xfrm>
          <a:prstGeom prst="pie">
            <a:avLst/>
          </a:prstGeom>
          <a:gradFill rotWithShape="0">
            <a:gsLst>
              <a:gs pos="0">
                <a:srgbClr val="cacaca"/>
              </a:gs>
              <a:gs pos="100000">
                <a:srgbClr val="f4f4f4"/>
              </a:gs>
            </a:gsLst>
            <a:lin ang="9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809880" y="1676520"/>
            <a:ext cx="1600200" cy="1600200"/>
            <a:chOff x="3809880" y="1676520"/>
            <a:chExt cx="1600200" cy="1600200"/>
          </a:xfrm>
        </p:grpSpPr>
        <p:sp>
          <p:nvSpPr>
            <p:cNvPr id="108" name=""/>
            <p:cNvSpPr/>
            <p:nvPr/>
          </p:nvSpPr>
          <p:spPr>
            <a:xfrm>
              <a:off x="3809880" y="1676520"/>
              <a:ext cx="1600200" cy="1600200"/>
            </a:xfrm>
            <a:prstGeom prst="ellipse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a1c30"/>
                </a:gs>
              </a:gsLst>
              <a:lin ang="10800000"/>
            </a:gradFill>
            <a:ln w="0">
              <a:noFill/>
            </a:ln>
            <a:effectLst>
              <a:outerShdw dist="76320" dir="108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43160" y="1909800"/>
              <a:ext cx="113184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066680" y="3048120"/>
            <a:ext cx="1600200" cy="1600200"/>
            <a:chOff x="1066680" y="3048120"/>
            <a:chExt cx="1600200" cy="1600200"/>
          </a:xfrm>
        </p:grpSpPr>
        <p:sp>
          <p:nvSpPr>
            <p:cNvPr id="111" name=""/>
            <p:cNvSpPr/>
            <p:nvPr/>
          </p:nvSpPr>
          <p:spPr>
            <a:xfrm>
              <a:off x="1066680" y="3048120"/>
              <a:ext cx="1600200" cy="16002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040"/>
                </a:gs>
              </a:gsLst>
              <a:lin ang="10800000"/>
            </a:gradFill>
            <a:ln w="0">
              <a:noFill/>
            </a:ln>
            <a:effectLst>
              <a:outerShdw dist="76320" dir="108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99960" y="3281400"/>
              <a:ext cx="113184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178000" y="4897440"/>
            <a:ext cx="1555920" cy="1503360"/>
            <a:chOff x="2178000" y="4897440"/>
            <a:chExt cx="1555920" cy="1503360"/>
          </a:xfrm>
        </p:grpSpPr>
        <p:sp>
          <p:nvSpPr>
            <p:cNvPr id="114" name=""/>
            <p:cNvSpPr/>
            <p:nvPr/>
          </p:nvSpPr>
          <p:spPr>
            <a:xfrm>
              <a:off x="2178000" y="4897440"/>
              <a:ext cx="1555920" cy="1503360"/>
            </a:xfrm>
            <a:prstGeom prst="ellipse">
              <a:avLst/>
            </a:prstGeom>
            <a:gradFill rotWithShape="0">
              <a:gsLst>
                <a:gs pos="0">
                  <a:srgbClr val="bfa907"/>
                </a:gs>
                <a:gs pos="100000">
                  <a:srgbClr val="443c02"/>
                </a:gs>
              </a:gsLst>
              <a:lin ang="10800000"/>
            </a:gradFill>
            <a:ln w="0">
              <a:noFill/>
            </a:ln>
            <a:effectLst>
              <a:outerShdw dist="76320" dir="108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05160" y="5116680"/>
              <a:ext cx="1100160" cy="10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486400" y="4114800"/>
            <a:ext cx="1523880" cy="1523880"/>
            <a:chOff x="5486400" y="4114800"/>
            <a:chExt cx="1523880" cy="1523880"/>
          </a:xfrm>
        </p:grpSpPr>
        <p:sp>
          <p:nvSpPr>
            <p:cNvPr id="117" name=""/>
            <p:cNvSpPr/>
            <p:nvPr/>
          </p:nvSpPr>
          <p:spPr>
            <a:xfrm>
              <a:off x="5486400" y="4114800"/>
              <a:ext cx="1523880" cy="1523880"/>
            </a:xfrm>
            <a:prstGeom prst="ellipse">
              <a:avLst/>
            </a:prstGeom>
            <a:gradFill rotWithShape="0">
              <a:gsLst>
                <a:gs pos="0">
                  <a:srgbClr val="6e81e0"/>
                </a:gs>
                <a:gs pos="100000">
                  <a:srgbClr val="323b67"/>
                </a:gs>
              </a:gsLst>
              <a:lin ang="10800000"/>
            </a:gradFill>
            <a:ln w="0">
              <a:noFill/>
            </a:ln>
            <a:effectLst>
              <a:outerShdw dist="76320" dir="108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08520" y="4336920"/>
              <a:ext cx="107820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781680" y="1981080"/>
            <a:ext cx="1523880" cy="1523880"/>
            <a:chOff x="6781680" y="1981080"/>
            <a:chExt cx="1523880" cy="1523880"/>
          </a:xfrm>
        </p:grpSpPr>
        <p:sp>
          <p:nvSpPr>
            <p:cNvPr id="120" name=""/>
            <p:cNvSpPr/>
            <p:nvPr/>
          </p:nvSpPr>
          <p:spPr>
            <a:xfrm>
              <a:off x="6781680" y="1981080"/>
              <a:ext cx="1523880" cy="15238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434"/>
                </a:gs>
              </a:gsLst>
              <a:lin ang="10800000"/>
            </a:gradFill>
            <a:ln w="0">
              <a:noFill/>
            </a:ln>
            <a:effectLst>
              <a:outerShdw dist="76320" dir="108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03800" y="2203200"/>
              <a:ext cx="107820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876240" y="3238560"/>
            <a:ext cx="1981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undre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ousan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amp; Mill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ey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1828800"/>
            <a:ext cx="1371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tal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put &amp; Memor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play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28640" y="2438280"/>
            <a:ext cx="1067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mor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wap ke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53160" y="4546440"/>
            <a:ext cx="9777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NDO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ey!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89480" y="5334120"/>
            <a:ext cx="783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rtual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ap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429000"/>
            <a:ext cx="29718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Not found in</a:t>
            </a:r>
            <a:br>
              <a:rPr sz="1800"/>
            </a:b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other</a:t>
            </a:r>
            <a:br>
              <a:rPr sz="1800"/>
            </a:b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calculators</a:t>
            </a:r>
            <a:r>
              <a:rPr b="0" lang="en-US" sz="1800" spc="-1" strike="noStrike">
                <a:solidFill>
                  <a:srgbClr val="1d528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15228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CALCULATOR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0" y="0"/>
            <a:ext cx="266688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afb"/>
                </a:solidFill>
                <a:latin typeface="Arial"/>
              </a:rPr>
              <a:t>Novelty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285840"/>
            <a:ext cx="9156600" cy="911160"/>
            <a:chOff x="0" y="285840"/>
            <a:chExt cx="9156600" cy="911160"/>
          </a:xfrm>
        </p:grpSpPr>
        <p:sp>
          <p:nvSpPr>
            <p:cNvPr id="131" name=""/>
            <p:cNvSpPr/>
            <p:nvPr/>
          </p:nvSpPr>
          <p:spPr>
            <a:xfrm>
              <a:off x="3240" y="285840"/>
              <a:ext cx="915336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3596760" y="285480"/>
              <a:ext cx="5551560" cy="324000"/>
            </a:xfrm>
            <a:prstGeom prst="pie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54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739800"/>
              <a:ext cx="5877000" cy="446040"/>
            </a:xfrm>
            <a:prstGeom prst="pie">
              <a:avLst/>
            </a:pr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1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131880" y="3429000"/>
            <a:ext cx="66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124080" y="1600200"/>
            <a:ext cx="2743200" cy="4876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019920" y="4191120"/>
            <a:ext cx="742680" cy="838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600200" y="0"/>
            <a:ext cx="3657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CALCULATOR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562720" y="0"/>
            <a:ext cx="27432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afb"/>
                </a:solidFill>
                <a:latin typeface="Arial"/>
              </a:rPr>
              <a:t>Application Ic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304560"/>
            <a:ext cx="9143640" cy="838440"/>
            <a:chOff x="0" y="304560"/>
            <a:chExt cx="9143640" cy="838440"/>
          </a:xfrm>
        </p:grpSpPr>
        <p:sp>
          <p:nvSpPr>
            <p:cNvPr id="144" name=""/>
            <p:cNvSpPr/>
            <p:nvPr/>
          </p:nvSpPr>
          <p:spPr>
            <a:xfrm>
              <a:off x="2880" y="304920"/>
              <a:ext cx="9140760" cy="83808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0800000">
              <a:off x="3591720" y="304200"/>
              <a:ext cx="5543640" cy="297720"/>
            </a:xfrm>
            <a:prstGeom prst="pie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54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722160"/>
              <a:ext cx="5868720" cy="410040"/>
            </a:xfrm>
            <a:prstGeom prst="pie">
              <a:avLst/>
            </a:pr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1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21932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-3240" y="1676520"/>
            <a:ext cx="13208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le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7720" y="1981080"/>
            <a:ext cx="12067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rizontal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ayou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9800" y="637524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(*) Covered by US Patent 5,623,433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3840" y="1612800"/>
            <a:ext cx="624816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buClr>
                <a:srgbClr val="1d52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Total Display with Currency Key Butt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1d52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Input Display with Constant Button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1d52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Undo Key: Disregard last keystroke please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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1d52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X# Keys (*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00     Hundred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          000   Thousand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          0x6   Million</a:t>
            </a:r>
            <a:br>
              <a:rPr sz="1800"/>
            </a:b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For example, entering: 2 [0x6] 3 [00] 7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  yields 2,000,307 in five keystrok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1d52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ms key to swap Total/Memory Display valu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1d52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Memory Display with m key for memory valu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0"/>
            <a:ext cx="3581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CALCULATOR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172200" y="1371600"/>
            <a:ext cx="2820960" cy="5105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0" y="0"/>
            <a:ext cx="327672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ical Lay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285840"/>
            <a:ext cx="9156600" cy="911160"/>
            <a:chOff x="0" y="285840"/>
            <a:chExt cx="9156600" cy="911160"/>
          </a:xfrm>
        </p:grpSpPr>
        <p:sp>
          <p:nvSpPr>
            <p:cNvPr id="159" name=""/>
            <p:cNvSpPr/>
            <p:nvPr/>
          </p:nvSpPr>
          <p:spPr>
            <a:xfrm>
              <a:off x="3240" y="285840"/>
              <a:ext cx="915336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800000">
              <a:off x="3596760" y="285480"/>
              <a:ext cx="5551560" cy="324000"/>
            </a:xfrm>
            <a:prstGeom prst="pie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54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739800"/>
              <a:ext cx="5877000" cy="446040"/>
            </a:xfrm>
            <a:prstGeom prst="pie">
              <a:avLst/>
            </a:pr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1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-3240" y="1676520"/>
            <a:ext cx="13208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le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4952880"/>
            <a:ext cx="60962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buClr>
                <a:srgbClr val="1d52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Scrolling Tape with total and subtotal amounts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1d52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Save Tape Button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1d52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Load Saved Tape Button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1d52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Save Tape Button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1d52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Fix (Edit Number and Recalculate) Button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0"/>
            <a:ext cx="3962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CALCULATOR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981080" y="1676520"/>
            <a:ext cx="5029200" cy="2720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86400" y="0"/>
            <a:ext cx="3657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izontal Lay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285840"/>
            <a:ext cx="9156600" cy="911160"/>
            <a:chOff x="0" y="285840"/>
            <a:chExt cx="9156600" cy="911160"/>
          </a:xfrm>
        </p:grpSpPr>
        <p:sp>
          <p:nvSpPr>
            <p:cNvPr id="172" name=""/>
            <p:cNvSpPr/>
            <p:nvPr/>
          </p:nvSpPr>
          <p:spPr>
            <a:xfrm>
              <a:off x="3240" y="285840"/>
              <a:ext cx="915336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3596760" y="285480"/>
              <a:ext cx="5551560" cy="324000"/>
            </a:xfrm>
            <a:prstGeom prst="pie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54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739800"/>
              <a:ext cx="5877000" cy="446040"/>
            </a:xfrm>
            <a:prstGeom prst="pie">
              <a:avLst/>
            </a:pr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1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-3240" y="1676520"/>
            <a:ext cx="13208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le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7720" y="1981080"/>
            <a:ext cx="12067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rizontal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ayou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0"/>
            <a:ext cx="36576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CALCULATOR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33520" y="1676520"/>
            <a:ext cx="2895480" cy="4800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3733920" y="2514600"/>
            <a:ext cx="5029200" cy="27208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28840" y="76320"/>
            <a:ext cx="24382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mes Redin</dc:creator>
  <dc:description/>
  <cp:keywords/>
  <dc:language>en-US</dc:language>
  <cp:lastModifiedBy>James Redin</cp:lastModifiedBy>
  <dcterms:modified xsi:type="dcterms:W3CDTF">2009-04-19T00:41:03Z</dcterms:modified>
  <cp:revision>10</cp:revision>
  <dc:subject/>
  <dc:title>Click to add title</dc:title>
</cp:coreProperties>
</file>